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4528-3A21-4F2C-903D-441706669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AE25-5AC2-4D67-8BCB-785E5E3C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CDF7-AF40-445F-B3A4-B00C97E84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7FDC-6738-4568-8707-039FE133E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CAEC-9F67-4ED5-A12B-363B40024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5CBB-AD14-4060-90E0-87877364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74F2-91C8-4917-A798-A0520642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2BE9-DD5C-458D-A715-4DE986F7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29E6B-F332-4759-99D9-85D47966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3B96-214B-4981-8F59-C24912BB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59EF-1312-4821-B00A-58F0D595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688B-7092-4F3E-9860-AE75C3AB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BADD-977D-429D-9EFF-D7169C92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4A49-EBE2-4B8C-B571-868E4FC7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02FF-6F1F-497C-8B04-7557871D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35D0-2B93-41AD-AA18-C0CC9FFA9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56B9-37F2-4FC4-AD72-BBFF66B04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6CE6-1631-4B47-944D-757356FA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17B7-3BB5-4009-85EB-73A6C1F0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2D53-E0B1-446E-A292-6F0571FA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C6DD-95C0-4856-9F0C-F763132C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0979-A830-4B40-ACF5-221055A0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1235-3DCF-4F2C-A0CD-7907E195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341D-AD74-43BA-8E1E-4AF9CC69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F0DA-6429-4A29-BB00-6DD01A405BD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3C75-7626-4330-85F6-C6A942DFE49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7273800" cy="16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МИНИСТЕРСТВО СПОРТА РОССИЙСКОЙ ФЕДЕРАЦИИ</a:t>
            </a:r>
            <a:br>
              <a:rPr sz="14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ФГУ "ЦЕНТР СПОРТИВНОЙ ПОДГОТОВКИ СБОРНЫХ КОМАНД РОССИИ" </a:t>
            </a:r>
            <a:br>
              <a:rPr sz="14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ВСЕРОССИЙСКАЯ ФЕДЕРАЦИЯ ЛЕГКОЙ АТЛЕТИКИ</a:t>
            </a:r>
            <a:br>
              <a:rPr sz="1400"/>
            </a:b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0560" y="3049560"/>
            <a:ext cx="705780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Чемпионат России мужчины и женщины, первенство России среди юниоров и юниорок до 20 лет, юношей и девушек до 18 л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эстафетному бе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-11.09.2016 г.                                          г. Адлер ст. «Юнос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754380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Чемпионат России мужчины и женщины, первенство России среди юниоров и юниорок до 20 лет, юношей и девушек до 18 лет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о эстафетному бегу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ГЛАВНАЯ СУДЕЙСКАЯ КОЛЛЕГИЯ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826920" y="1989000"/>
          <a:ext cx="7777440" cy="3532320"/>
        </p:xfrm>
        <a:graphic>
          <a:graphicData uri="http://schemas.openxmlformats.org/drawingml/2006/table">
            <a:tbl>
              <a:tblPr/>
              <a:tblGrid>
                <a:gridCol w="2725920"/>
                <a:gridCol w="2652840"/>
                <a:gridCol w="450720"/>
                <a:gridCol w="1947960"/>
              </a:tblGrid>
              <a:tr h="344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. Каза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делегат ВФ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Слепчен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ов-на-До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уд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Безъязыч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екрет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 Клочк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гогра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екретар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Слепченк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ов-на-До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удь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 Шуб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удь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. П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удь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 Беспал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ов-на-До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удьи по кадр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 Сокольц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удь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 Болдыре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ов-на-До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41:56Z</dcterms:created>
  <dc:creator>Wl</dc:creator>
  <dc:description/>
  <dc:language>en-US</dc:language>
  <cp:lastModifiedBy>SONY</cp:lastModifiedBy>
  <cp:lastPrinted>2016-09-09T09:45:50Z</cp:lastPrinted>
  <dcterms:modified xsi:type="dcterms:W3CDTF">2016-09-09T10:05:14Z</dcterms:modified>
  <cp:revision>30</cp:revision>
  <dc:subject/>
  <dc:title>ДЕПАРТАМЕНТ ПО ФИЗИЧЕСКОЙ КУЛЬТУРЕ И СПОРТУ  КРАСНОДАРСКОГО КРАЯ ФЕДЕРАЦИЯ ЛЕГКОЙ АТЛЕТИКИ КРАСНОДАРСКОГО КРАЯ КУБАНСКИЙ ГОСУДАРСТВЕННЫЙ УНИВЕРСИТЕТ ФИЗИЧЕСКОЙ КУЛЬТУРЫ, СПОРТА И ТУРИЗМА КАФЕДРА ТЕОРИИ И МЕТОДИКИ ЛЕГКОЙ АТЛЕТИКИ   СПОРТИВНЫЙ КЛУБ  КГУФК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